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6F6-A93A-4CD7-8A15-5EEAFC5C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77A-B9D8-4491-A876-F6C1698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9AB-7B62-4F06-B4E3-864C32B5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5B8-44F4-49D1-B794-CC1722D1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B86E-3ADD-4C74-97E1-A52D352F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990-76F5-4736-B735-684D09F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D4A3-8EEB-4659-9A1E-1DE9AA3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B62-0FD7-48A1-96A2-A084E7E9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5530-CC38-4EF5-A3AC-A60DA7F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6D51-9EDC-45C5-BE40-C4B7CB4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A3B0-3E9A-4109-A48D-BB9E7D6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F98-895C-4465-866C-68CDA67A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D88C-12C7-44FC-86EB-15DB35F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DFDD-3F67-41E5-BABC-9DC457C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6603-ED09-4F14-9C85-BEEADCE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DA56-6CE6-4655-8613-6E004D7E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68E3-1C3B-4D6C-8DEF-61F9FFD2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C17-64F3-4C5F-8CD7-1064422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20C-E863-4DB0-91F1-93526E3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F35-2950-4A75-9D06-8BF7F52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CD8-A12E-47EA-A44D-965B669F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168-896D-4591-A6AB-62CF8149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70F-EB04-42E0-9257-AF501E4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C2B-15F8-445A-9D39-D5CC4FA1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B53-BC1E-4B04-8CBA-DDA1FADA216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79A-CFCC-4C43-9B39-301AE62D049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184880" cy="474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53360" y="5438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间套还可表达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9640"/>
            <a:ext cx="7304040" cy="471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259240"/>
            <a:ext cx="76770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4040" y="762120"/>
            <a:ext cx="7840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6387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773280"/>
            <a:ext cx="69976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9160" y="533520"/>
            <a:ext cx="7937640" cy="43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808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7040" y="758880"/>
            <a:ext cx="697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20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7805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7040" y="523800"/>
            <a:ext cx="7813440" cy="461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9880" y="5029200"/>
            <a:ext cx="7837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782640"/>
            <a:ext cx="6885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0760" y="812880"/>
            <a:ext cx="69217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671400"/>
            <a:ext cx="74613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921800" cy="451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962600"/>
            <a:ext cx="6897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835200"/>
            <a:ext cx="725508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57360"/>
            <a:ext cx="73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698400"/>
            <a:ext cx="715644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3080" y="1038240"/>
            <a:ext cx="6416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735120"/>
            <a:ext cx="6946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8280360" cy="47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5321160"/>
            <a:ext cx="5545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543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709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3480" y="674640"/>
            <a:ext cx="6956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7:25Z</dcterms:created>
  <dc:creator>lwl</dc:creator>
  <dc:description/>
  <dc:language>en-US</dc:language>
  <cp:lastModifiedBy>lk</cp:lastModifiedBy>
  <dcterms:modified xsi:type="dcterms:W3CDTF">2005-06-30T00:58:53Z</dcterms:modified>
  <cp:revision>21</cp:revision>
  <dc:subject/>
  <dc:title>幻灯片 1</dc:title>
</cp:coreProperties>
</file>