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9D7F-2A3D-4142-A849-660F17FE0B58}"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0B92-19A7-4551-819A-72AD5BF50B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79A0-B6C2-48E8-9508-FE21C4E53A0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B1D3-4CBD-40B3-9110-36A137AA5900}"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11376-688D-456E-ACEA-824234AF0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9EADF-403C-45F9-A53B-1E901893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315D-424C-4550-9711-626842466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1CF31-9683-4CE7-8988-7F77C8D79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84795-D996-47E5-8CC6-ACA48E511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62029-9000-4812-9FF2-2498F90AA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7EABE-7993-43C6-A0EA-2318BBD48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DA319-3A56-4957-B58B-53C8BF929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D54F4-FB4C-461D-94B9-55CEA4B83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5A53E-CE91-4FE3-9D92-E7015F07E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49852-409F-4AE7-8010-3AAAF4B2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8BB6-83F0-4D5F-92CF-668E8A53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1B599-C3B8-43ED-8282-75266E29D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9A6B-4FCE-4292-8503-4DA537B10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F6126-B42B-4811-9AFB-DBC975D34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E19FE-F56D-4FD8-ADBE-30BC00479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326AE-4A79-4DCA-9A92-CEF5FAD94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D306-50B2-4656-B4A2-D3860589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8D811-2D46-40DC-9058-F216841E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836A-A703-4526-B998-40757246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F4AFA-B90F-476E-BB9A-B1A3188E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397C-36B3-4222-978A-8E5528E1C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00FF-F5DD-4C94-A2DC-C69B2838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B34D-DD6C-436F-A45B-2BA858A8F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368B-1D97-483F-8612-560A001C5C86}"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6983-7C12-4E15-91F0-79005156C0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8397-E1EE-4266-BB97-B70E8DE867E8}" type="datetime">
              <a:rPr b="0" lang="en-US" sz="1200" spc="-1" strike="noStrike">
                <a:solidFill>
                  <a:srgbClr val="eaeaea"/>
                </a:solidFill>
                <a:latin typeface="Verdana"/>
              </a:rPr>
              <a:t>07/30/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2064-FD65-4FC6-8A88-9846CE976592}"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