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41245-570F-4378-AD60-B215BB2EF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6146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24149"/>
              </a:spcAft>
              <a:buNone/>
              <a:tabLst>
                <a:tab algn="l" pos="0"/>
                <a:tab algn="l" pos="3352680"/>
                <a:tab algn="l" pos="670572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5D476-7C0F-4A12-BE7B-DAA9C899B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6146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24149"/>
              </a:spcAft>
              <a:buNone/>
              <a:tabLst>
                <a:tab algn="l" pos="0"/>
                <a:tab algn="l" pos="3352680"/>
                <a:tab algn="l" pos="670572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BBFA0-D3DF-439B-9590-959727A6F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6146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24149"/>
              </a:spcAft>
              <a:buNone/>
              <a:tabLst>
                <a:tab algn="l" pos="0"/>
                <a:tab algn="l" pos="3352680"/>
                <a:tab algn="l" pos="670572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76B30-D193-470F-B888-7AE58F9E0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6146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24149"/>
              </a:spcAft>
              <a:buNone/>
              <a:tabLst>
                <a:tab algn="l" pos="0"/>
                <a:tab algn="l" pos="3352680"/>
                <a:tab algn="l" pos="670572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85C08-0174-4486-B192-866D9EAD1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6146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24149"/>
              </a:spcAft>
              <a:buNone/>
              <a:tabLst>
                <a:tab algn="l" pos="0"/>
                <a:tab algn="l" pos="3352680"/>
                <a:tab algn="l" pos="670572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00F04-198B-4937-B7FE-66CEDECA3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6146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24149"/>
              </a:spcAft>
              <a:buNone/>
              <a:tabLst>
                <a:tab algn="l" pos="0"/>
                <a:tab algn="l" pos="3352680"/>
                <a:tab algn="l" pos="670572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4BDBF-1A03-4BEF-853A-73A279F4E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6146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24149"/>
              </a:spcAft>
              <a:buNone/>
              <a:tabLst>
                <a:tab algn="l" pos="0"/>
                <a:tab algn="l" pos="3352680"/>
                <a:tab algn="l" pos="670572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D534F-508F-4A9D-AEF4-96A842CF6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6146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4FF60-5C59-454F-8CAF-21B949FC3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6146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24149"/>
              </a:spcAft>
              <a:buNone/>
              <a:tabLst>
                <a:tab algn="l" pos="0"/>
                <a:tab algn="l" pos="3352680"/>
                <a:tab algn="l" pos="670572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9BC9A-877E-4B72-8AFA-1366F01E2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6146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24149"/>
              </a:spcAft>
              <a:buNone/>
              <a:tabLst>
                <a:tab algn="l" pos="0"/>
                <a:tab algn="l" pos="3352680"/>
                <a:tab algn="l" pos="670572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AADC4-A36A-430A-AE1C-C59EA19F3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6146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24149"/>
              </a:spcAft>
              <a:buNone/>
              <a:tabLst>
                <a:tab algn="l" pos="0"/>
                <a:tab algn="l" pos="3352680"/>
                <a:tab algn="l" pos="670572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676FD-472D-4821-A4B4-4D04C16BF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6146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24149"/>
              </a:spcAft>
              <a:buNone/>
              <a:tabLst>
                <a:tab algn="l" pos="0"/>
                <a:tab algn="l" pos="3352680"/>
                <a:tab algn="l" pos="670572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279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4E037-8A46-461B-A2C5-C9A8CA24BA8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-252360" y="47628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Verdana"/>
              </a:rPr>
              <a:t>Structure X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55520" y="800280"/>
            <a:ext cx="331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Verdana"/>
              </a:rPr>
              <a:t>Structures X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340000" y="476280"/>
            <a:ext cx="1727280" cy="360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559600" spc="-1" strike="noStrike">
                <a:solidFill>
                  <a:srgbClr val="000000"/>
                </a:solidFill>
                <a:latin typeface="Verdana"/>
              </a:rPr>
              <a:t>Transformation</a:t>
            </a:r>
            <a:endParaRPr b="0" lang="en-US" sz="355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15920"/>
            <a:ext cx="676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ffffff"/>
                </a:solidFill>
                <a:latin typeface="Verdana"/>
              </a:rPr>
              <a:t>XML et X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08000" y="1197000"/>
            <a:ext cx="5040360" cy="291960"/>
          </a:xfrm>
          <a:prstGeom prst="rect">
            <a:avLst/>
          </a:prstGeom>
          <a:noFill/>
          <a:ln w="1260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300" spc="-1" strike="noStrike">
                <a:solidFill>
                  <a:srgbClr val="000000"/>
                </a:solidFill>
                <a:latin typeface="Tahoma"/>
              </a:rPr>
              <a:t>&lt;?xml version="1.0" en_oding="ISO-8859-1" ?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50920" y="1700280"/>
            <a:ext cx="4321080" cy="2810160"/>
          </a:xfrm>
          <a:prstGeom prst="rect">
            <a:avLst/>
          </a:prstGeom>
          <a:noFill/>
          <a:ln w="1260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&lt;bibiothequ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&lt;livre nom="Guerre et paix"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auteur="Léon Tolstoï"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genre="roman" /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&lt;livre nom="Fondation"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auteur="Isaac Asimov"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genre="science-fiction" /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&lt;livre nom="La nuit du renard"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auteur="Mary Higgins Clark"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genre="policier" /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&lt;/bibliothequ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572000" y="1700280"/>
            <a:ext cx="4321080" cy="4339440"/>
          </a:xfrm>
          <a:prstGeom prst="rect">
            <a:avLst/>
          </a:prstGeom>
          <a:noFill/>
          <a:ln w="1260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ahoma"/>
              </a:rPr>
              <a:t>&lt;</a:t>
            </a: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bibliothequ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&lt;livr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&lt;nom&gt;Guerre et paix&lt;/nom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&lt;auteur&gt;Léon Tolstoï&lt;/auteu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&lt;genre&gt;roman&lt;/genre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&lt;/livr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&lt;livr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&lt;nom&gt;Fondation&lt;/nom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&lt;auteur&gt;Isaac Asimov&lt;/auteu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&lt;genre&gt;science-fiction&lt;/genr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&lt;/livr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&lt;livr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&lt;nom&gt;La nuit du renard&lt;/nom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&lt;auteur&gt;Mary Higgins Clark&lt;/auteu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&lt;genre&gt;policier&lt;/genr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&lt;/livr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&lt;/bibliothequ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042920" y="47628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XS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