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6.wmf" ContentType="image/x-wmf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D944-C3D1-47D4-90CB-C1260B8D7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7889-8F14-4748-8AAC-3B505AA1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86B6BA-0781-46F7-9611-08EBCA3E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29A985-C894-4B81-B92C-B1356872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1A775-60B8-436A-A450-077E737C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8F7A19-5D9E-4294-92D2-744354C7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09A5B0-2774-477C-8A9F-6EC16A12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D4D73A-A263-48EE-88DF-701FF963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BF966E-4CC4-42E2-8D18-E0FAA730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AD124E-FB21-4061-90DA-40CF13E87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C352AA-49F1-4A4B-9C51-654519262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7CF5F0-1322-4C39-8CD0-9E8BCAA28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2413-4C28-43BB-ABBE-AD612AC0F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3012F5-2C15-41DE-A717-CD233C7F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36FD2F-FC12-4D45-9229-669F8C2E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DB6999-D5AD-44D3-BEBC-06603239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50F262-943A-4FA1-93A6-33728511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9566B6-45CD-4E5A-9754-6E9643AB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7E0CAB-E3C6-4359-BBB9-9E638BE2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EF3BCD-4AD6-4B18-A802-9FC73B54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DA6ABF-C9CC-41FE-94EF-067FE2A7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E8555C-2871-4284-9D99-9680F922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2FB9B4-EF4C-484E-95CF-22A45B521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9E58-BC2C-4ACE-B40A-623C4CE0B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FE214E-EEB5-4810-80C2-BC6D7D327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5583-4C41-44E4-9DE0-73C52B832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7B931-F4DF-41A1-8AAF-221C5B5A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A2F9-8B9D-440E-B5EE-69F25A32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0DA17-07DB-4392-8221-E6FB5C0C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0014-CEF0-42E6-9EB8-F7289A5E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A31F-B3E5-4D9E-B43C-AA6989A9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5D125-478E-4781-BC21-8A778428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86A2-FA44-47BE-B762-AF7AF728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86A83-FCE7-4342-B605-6FF41ECD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1A6D-8A4C-4761-95A9-009DE658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25187-374F-4F07-8816-BDCDEE52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ADE92-7932-42E1-B525-71C49397E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149D-9321-4345-8009-65E890509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D3A61-D17B-4D46-9258-9E637DDF5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AA3CD-283F-4808-8262-135761B7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4E587-82DD-4F1D-9711-53E16FF2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3E62E-BB5C-49AB-8B44-78D37D8A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2EC5A-8EAB-4575-BA50-56C7FD36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F53C-1F05-4167-927B-BB0C0C5B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966C9-D1FA-47DF-A3C2-CD8F0E91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926F6-FE09-410E-87C2-68A94AD4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49608-EE59-4EDF-9C27-540203DF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96F96-63A4-4C4E-AB05-19FE72F6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B7A32-D47C-4748-820E-0ECAEDC5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A1C09-58BF-493C-BF4C-84BBD04F6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C57AD-0452-48F9-A8D8-7E988C4B2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D3B6C-DEF4-4FE7-A401-09DC2A23F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CD5D9-0348-4832-8038-5744AC21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00B11-6E15-4659-9269-35303DBC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A520-CE68-4B6A-A6C1-0387EA35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F9593-E2A0-4A13-A3D3-6BE1B677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FB67E-3AD6-426C-9447-F5559D3A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F6834-6848-4B86-9211-324D04C8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3DDA7-1DE5-4A6A-903D-2841D024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5F019-5259-41A5-BA87-FD8497C2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EE7C3-D8DC-42B6-81F8-DA8BCF87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43977-6B96-436F-A0E8-DE6BBD64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FA8B7-9482-4EC0-A770-4BBF36F54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DC43B-C2DD-4E9C-BB0E-79B32A3D2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56FBE-2E99-4699-9498-F11C939B6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5F3E-AFFF-4104-BCBB-1997B40E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C6FD8-5535-4B3D-9367-5B9D1CE6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A41A0-01B3-4647-B2EC-121B5882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BCBDE-B613-42F5-A638-AEEB0B20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2A61D-4AED-494E-81CE-FF399C1A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94F06-462D-4B36-8FEF-2E93C8B1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D8725-C558-456A-B3B2-2AC706BC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E2881-D677-4CA1-9096-AF6CE468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18A55-90E0-4C41-AFA2-030E9503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D3296-C658-49BB-A512-C25FFF31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74F40-1530-4372-9670-EE63F8712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D292-C22E-48D0-9DBA-C47DC538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D3CD7-D0C2-4BF3-87DC-0230DBBD1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499D6-5D4A-432C-915C-FE5173A17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BE09B-8685-4013-B8D4-0DBA22D4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51355-93BC-4844-8530-193C607B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08F45-D437-49C5-BB3B-B5F27091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5631A-D2FB-4B81-A13F-3F0CC6A4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258DD-CC2C-4372-94DA-B3ED4B99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5806C-AAD7-49E1-90CB-E47F2852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4DDE7-0EC9-4224-BEF3-2FB64088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DCA3A-BD68-4FFD-837B-0262FCEF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646F-60BB-4817-A93C-45614D8C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49AAA-A119-493D-ABBA-62471976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91A5C-8817-4252-834E-764DD1AFB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6C7BB-3B9C-4593-8847-577987201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812BD-B40D-486C-841E-9462B8AAE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6A168-6874-499C-8660-BE9C50FE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BBAD4-7A0C-47D9-AFBA-874B93B7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BBD22-DF6C-4ED6-92B4-84162432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56CB6-7C07-458A-875D-44BDDB4D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11A36-7E0D-40DF-84CA-81EA577D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F81DB-83C5-49E7-979D-79352BE6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9B63-B90B-47C7-B1B0-7D912738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460E7-7208-41F5-BA74-42128F13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C867F-D7B9-447F-B335-84607B14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6EEC6-7673-46AD-A2F1-960267D9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FF128-2C1F-4C33-9DD5-30BF3DA5C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67746-4376-42E5-B2AA-82FB84E64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7BB13-4511-4EC9-BDBC-65D46249C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16C86-FA6D-4E93-809A-A3121B64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9C35D-F6C6-4B2A-82FA-DC7DAFD3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F7E47-68DB-4B4F-9993-ED0E42FA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B147E-6D57-47BC-B07D-F85C6285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EAAD-18BB-4CF7-85D1-4AC3E0CA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E3C67-B25B-4748-AB44-B1D09F4E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1D239-1153-4273-BF8F-97CCE220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850B2-079E-4655-975D-EC6DE559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3ECB3-8C03-4132-8370-76F30C1E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8A7B4-A4F8-4C92-9ABA-FF1ED111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36E65-9CFF-471A-AA5B-2A818694E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2E62A-F943-4755-B3F7-394DE026C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3587F9-EA05-452F-99F8-BCC38288C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2FC7A3-A7CE-4403-AE9B-4AE4F54D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2E4027-71FF-467A-AEC0-7B6C2002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-29865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32A0-0FC8-44BB-9488-08DCB0135D7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303680" y="54720"/>
            <a:ext cx="2148120" cy="2075040"/>
            <a:chOff x="7303680" y="54720"/>
            <a:chExt cx="2148120" cy="2075040"/>
          </a:xfrm>
        </p:grpSpPr>
        <p:grpSp>
          <p:nvGrpSpPr>
            <p:cNvPr id="39" name=""/>
            <p:cNvGrpSpPr/>
            <p:nvPr/>
          </p:nvGrpSpPr>
          <p:grpSpPr>
            <a:xfrm>
              <a:off x="7303680" y="54720"/>
              <a:ext cx="2148120" cy="2075040"/>
              <a:chOff x="7303680" y="54720"/>
              <a:chExt cx="2148120" cy="207504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303680" y="54720"/>
                <a:ext cx="2148120" cy="1695960"/>
                <a:chOff x="7303680" y="54720"/>
                <a:chExt cx="2148120" cy="169596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7318440" y="434880"/>
                  <a:ext cx="2133360" cy="120348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505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509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3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534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9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3CC3-72CB-4CD7-98AD-CFD398926BE6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1C9B-A7ED-4E6E-AFA7-F0D24CB624A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e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e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e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e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e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e0000"/>
          </a:solidFill>
          <a:ln w="9360">
            <a:solidFill>
              <a:srgbClr val="c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376A-AA0B-4D61-99B8-FA127F88EFE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34A3-32C9-45F8-BBB9-74F9502F1D4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F194-4FF1-4437-99C0-D43F16A49F6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8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28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28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dt" idx="1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sldNum" idx="1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93CC-4E2A-4F90-A2DE-68A035C057B4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333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334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337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A98F-1BCB-4E10-8D4D-63477E287CD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381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384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PlaceHolder 1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sldNum" idx="24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EB1C-93FD-47F5-B952-21F5C564C07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27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31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456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B72A-4F18-48F2-A39E-0784E912F463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0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-2268360" y="259920"/>
            <a:ext cx="1083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Мусина Раушания Гатуфовна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0" y="1412640"/>
            <a:ext cx="9144000" cy="56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Учитель истории и обществознания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        </a:t>
            </a: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Ġ  Новонадыровской средней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           </a:t>
            </a: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общеобразовательной школы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           </a:t>
            </a: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Альметьевского муниципального район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           </a:t>
            </a: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Общий педагогический стаж 17лет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           </a:t>
            </a: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в данной школе 12 лет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           </a:t>
            </a: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Учитель </a:t>
            </a:r>
            <a:r>
              <a:rPr b="0" lang="en-US" sz="1800" spc="-1" strike="noStrike">
                <a:solidFill>
                  <a:srgbClr val="ccecff"/>
                </a:solidFill>
                <a:latin typeface="Verdana"/>
              </a:rPr>
              <a:t>I</a:t>
            </a: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 квалификационной категори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Тема аналитической справки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«Формирование и развитие компетентности обучающихся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на уроках истории и обществознания»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Технологическая компетентность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Готовность к самообразованию (образованию через всю жизнь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Информационная компетентность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Коммуникативная компетентность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Социальная компетентность (готовность к продуктивному социальному взаимодействию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Готовность делать осознанный и ответственный выбор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26044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686800" y="-530748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324000" y="1052640"/>
            <a:ext cx="8603280" cy="4893840"/>
            <a:chOff x="324000" y="1052640"/>
            <a:chExt cx="8603280" cy="4893840"/>
          </a:xfrm>
        </p:grpSpPr>
        <p:cxnSp>
          <p:nvCxnSpPr>
            <p:cNvPr id="587" name="_s109582"/>
            <p:cNvCxnSpPr>
              <a:stCxn id="588" idx="0"/>
              <a:endCxn id="589" idx="2"/>
            </p:cNvCxnSpPr>
            <p:nvPr/>
          </p:nvCxnSpPr>
          <p:spPr>
            <a:xfrm flipV="1" rot="16200000">
              <a:off x="5644440" y="1992960"/>
              <a:ext cx="973080" cy="3011760"/>
            </a:xfrm>
            <a:prstGeom prst="bentConnector3">
              <a:avLst>
                <a:gd name="adj1" fmla="val 1169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90" name="_s109581"/>
            <p:cNvCxnSpPr>
              <a:stCxn id="591" idx="0"/>
              <a:endCxn id="589" idx="2"/>
            </p:cNvCxnSpPr>
            <p:nvPr/>
          </p:nvCxnSpPr>
          <p:spPr>
            <a:xfrm flipV="1">
              <a:off x="4625280" y="3012480"/>
              <a:ext cx="3240" cy="9730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92" name="_s109580"/>
            <p:cNvCxnSpPr>
              <a:stCxn id="593" idx="0"/>
              <a:endCxn id="589" idx="2"/>
            </p:cNvCxnSpPr>
            <p:nvPr/>
          </p:nvCxnSpPr>
          <p:spPr>
            <a:xfrm flipH="1" flipV="1" rot="5400000">
              <a:off x="2633400" y="1993320"/>
              <a:ext cx="973080" cy="3011760"/>
            </a:xfrm>
            <a:prstGeom prst="bentConnector3">
              <a:avLst>
                <a:gd name="adj1" fmla="val 1169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94" name=""/>
            <p:cNvSpPr txBox="1"/>
            <p:nvPr/>
          </p:nvSpPr>
          <p:spPr>
            <a:xfrm>
              <a:off x="3335040" y="1052640"/>
              <a:ext cx="2580840" cy="19605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Диагностик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учебных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достижен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 txBox="1"/>
            <p:nvPr/>
          </p:nvSpPr>
          <p:spPr>
            <a:xfrm>
              <a:off x="324000" y="3985920"/>
              <a:ext cx="2580840" cy="19605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1000" spc="-1" strike="noStrike">
                  <a:solidFill>
                    <a:srgbClr val="ffffff"/>
                  </a:solidFill>
                  <a:latin typeface="Tahoma"/>
                </a:rPr>
                <a:t>Успеваемость  и качеств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tt-RU" sz="1000" spc="-1" strike="noStrike">
                  <a:solidFill>
                    <a:srgbClr val="ffffff"/>
                  </a:solidFill>
                  <a:latin typeface="Tahoma"/>
                </a:rPr>
                <a:t>образования по истори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 txBox="1"/>
            <p:nvPr/>
          </p:nvSpPr>
          <p:spPr>
            <a:xfrm>
              <a:off x="3335040" y="3985920"/>
              <a:ext cx="2580840" cy="19605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1000" spc="-1" strike="noStrike">
                  <a:solidFill>
                    <a:srgbClr val="ffffff"/>
                  </a:solidFill>
                  <a:latin typeface="Tahoma"/>
                </a:rPr>
                <a:t>% учащихся повысивши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1000" spc="-1" strike="noStrike">
                  <a:solidFill>
                    <a:srgbClr val="ffffff"/>
                  </a:solidFill>
                  <a:latin typeface="Tahoma"/>
                </a:rPr>
                <a:t>итоговую оценк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 txBox="1"/>
            <p:nvPr/>
          </p:nvSpPr>
          <p:spPr>
            <a:xfrm>
              <a:off x="6346440" y="3985920"/>
              <a:ext cx="2580840" cy="19605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1000" spc="-1" strike="noStrike">
                  <a:solidFill>
                    <a:srgbClr val="ffffff"/>
                  </a:solidFill>
                  <a:latin typeface="Tahoma"/>
                </a:rPr>
                <a:t>Успеваемость и качество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1000" spc="-1" strike="noStrike">
                  <a:solidFill>
                    <a:srgbClr val="ffffff"/>
                  </a:solidFill>
                  <a:latin typeface="Tahoma"/>
                </a:rPr>
                <a:t>образования по обществознанию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98" name=""/>
            <p:cNvGraphicFramePr/>
            <p:nvPr/>
          </p:nvGraphicFramePr>
          <p:xfrm>
            <a:off x="3347280" y="4511160"/>
            <a:ext cx="2592360" cy="13615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59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47280" y="4511160"/>
                      <a:ext cx="2592360" cy="136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600" name=""/>
          <p:cNvGraphicFramePr/>
          <p:nvPr/>
        </p:nvGraphicFramePr>
        <p:xfrm>
          <a:off x="324000" y="4005360"/>
          <a:ext cx="2592360" cy="1512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4005360"/>
                    <a:ext cx="259236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2" name=""/>
          <p:cNvSpPr/>
          <p:nvPr/>
        </p:nvSpPr>
        <p:spPr>
          <a:xfrm>
            <a:off x="0" y="313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313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270440" y="2809080"/>
            <a:ext cx="2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993366"/>
                </a:solidFill>
                <a:latin typeface="Tahoma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613840" y="3388680"/>
            <a:ext cx="432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6300720" y="4005360"/>
          <a:ext cx="2664000" cy="15127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00720" y="4005360"/>
                    <a:ext cx="266400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Внеурочная деятельность обучающихс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496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Ведение кружка  «Юный краевед»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Работа с одаренными детьм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Привлечение к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исследовательской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деятельност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324000" y="1628640"/>
          <a:ext cx="8951760" cy="14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628640"/>
                    <a:ext cx="8951760" cy="14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2" name=""/>
          <p:cNvSpPr/>
          <p:nvPr/>
        </p:nvSpPr>
        <p:spPr>
          <a:xfrm>
            <a:off x="0" y="2881800"/>
            <a:ext cx="561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03dff"/>
                </a:solidFill>
                <a:latin typeface="Arial"/>
                <a:ea typeface="Times New Roman"/>
              </a:rPr>
              <a:t>Районный тур олимпи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281240" y="1407960"/>
            <a:ext cx="182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84360" y="3573360"/>
            <a:ext cx="1150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108000" y="3213000"/>
          <a:ext cx="5067360" cy="2535480"/>
        </p:xfrm>
        <a:graphic>
          <a:graphicData uri="http://schemas.openxmlformats.org/drawingml/2006/table">
            <a:tbl>
              <a:tblPr/>
              <a:tblGrid>
                <a:gridCol w="1079280"/>
                <a:gridCol w="432000"/>
                <a:gridCol w="431640"/>
                <a:gridCol w="319320"/>
                <a:gridCol w="407880"/>
                <a:gridCol w="385920"/>
                <a:gridCol w="487080"/>
                <a:gridCol w="382680"/>
                <a:gridCol w="382680"/>
                <a:gridCol w="380880"/>
                <a:gridCol w="378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4/20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5/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6/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7/20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/20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асс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лимпиад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оведе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tt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tt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м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tt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ществозна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</a:tr>
              <a:tr h="41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Х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tt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овы предпринимател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кой деятельности…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</a:tr>
            </a:tbl>
          </a:graphicData>
        </a:graphic>
      </p:graphicFrame>
      <p:pic>
        <p:nvPicPr>
          <p:cNvPr id="616" name="" descr=""/>
          <p:cNvPicPr/>
          <p:nvPr/>
        </p:nvPicPr>
        <p:blipFill>
          <a:blip r:embed="rId3"/>
          <a:stretch/>
        </p:blipFill>
        <p:spPr>
          <a:xfrm rot="784800">
            <a:off x="5076720" y="4508280"/>
            <a:ext cx="1195560" cy="180000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4"/>
          <a:stretch/>
        </p:blipFill>
        <p:spPr>
          <a:xfrm rot="777600">
            <a:off x="5931000" y="4722480"/>
            <a:ext cx="1152360" cy="181764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5"/>
          <a:stretch/>
        </p:blipFill>
        <p:spPr>
          <a:xfrm rot="759000">
            <a:off x="6877080" y="4581000"/>
            <a:ext cx="1150920" cy="187344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6"/>
          <a:stretch/>
        </p:blipFill>
        <p:spPr>
          <a:xfrm rot="680400">
            <a:off x="7885080" y="4652640"/>
            <a:ext cx="1122480" cy="191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Учитель как классный руководитель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577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05000" indent="-395280" algn="ctr">
              <a:spcBef>
                <a:spcPts val="476"/>
              </a:spcBef>
              <a:buClr>
                <a:srgbClr val="ce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Классный руководитель – это посредник между обществом и растущей личностью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ctr">
              <a:spcBef>
                <a:spcPts val="476"/>
              </a:spcBef>
              <a:buClr>
                <a:srgbClr val="ce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Классный руководитель координатор совместных действии педагогов, семьи и творец повседневной деятельности детей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2"/>
          <a:stretch/>
        </p:blipFill>
        <p:spPr>
          <a:xfrm rot="20541600">
            <a:off x="495000" y="3251160"/>
            <a:ext cx="2133720" cy="171144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3"/>
          <a:stretch/>
        </p:blipFill>
        <p:spPr>
          <a:xfrm rot="1111200">
            <a:off x="6532200" y="3468240"/>
            <a:ext cx="2243160" cy="174780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4"/>
          <a:stretch/>
        </p:blipFill>
        <p:spPr>
          <a:xfrm>
            <a:off x="6084720" y="4941720"/>
            <a:ext cx="2433960" cy="175896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5"/>
          <a:stretch/>
        </p:blipFill>
        <p:spPr>
          <a:xfrm>
            <a:off x="468360" y="4846680"/>
            <a:ext cx="2158920" cy="182700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6"/>
          <a:stretch/>
        </p:blipFill>
        <p:spPr>
          <a:xfrm>
            <a:off x="3132000" y="3284640"/>
            <a:ext cx="2376720" cy="182088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7"/>
          <a:stretch/>
        </p:blipFill>
        <p:spPr>
          <a:xfrm>
            <a:off x="2987640" y="5103720"/>
            <a:ext cx="2664000" cy="17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овременные образовательные технолог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спользование  компьютерных технологии на уроках истории и обществознания делает труд педагога эффективным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Рождает интерес к знаниям, дает возможность ученику самостоятельно усвоить учебный материа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Обеспечивает  учащихся необходимой информацией, способствует формированию саморазвития и самопознан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Развивает творческий и интеллектуальный потенциал учащихс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бобщение и распространение педагогического опыта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24000" y="2361960"/>
            <a:ext cx="8712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99"/>
                </a:solidFill>
                <a:latin typeface="Arial"/>
              </a:rPr>
              <a:t>2004/2005 учебный год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ткрытый урок в 5 классе для директоров школ Альметьевского района и г. Альметьевск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99"/>
                </a:solidFill>
                <a:latin typeface="Arial"/>
              </a:rPr>
              <a:t>2005/2006 учебный год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тупление на семинаре РМО учителей истории и обществознания на тему «Интеграция на уроках истории и обществознания»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99"/>
                </a:solidFill>
                <a:latin typeface="Arial"/>
              </a:rPr>
              <a:t>2006/2007учебный год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ое внеурочное мероприятие для участников семинара РМО учителей истории и обществознания, которая проходила на базе Новонадыровской средней общеобразовательной школы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тупление перед слушателями ИНПО г. Набережные Челны на тему: «Краеведение в системе работы учителя истории»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99"/>
                </a:solidFill>
                <a:latin typeface="Arial"/>
              </a:rPr>
              <a:t>2007/2008 учебный год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муниципальном конкурсе «Учитель года»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99"/>
                </a:solidFill>
                <a:latin typeface="Arial"/>
              </a:rPr>
              <a:t>2008/2009 учебный год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заседании круглого стола по теме «Инновационная деятельность учителя истории и обществознания» в ходе региональных курсов повышения квалификации учителей истории и обществознания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99"/>
                </a:solidFill>
                <a:latin typeface="Arial"/>
              </a:rPr>
              <a:t>Публик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издательстве «Открытый урок» г.Казань вышли  публикации: «Страна большого Хапи»- февраль 2007 г.,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 чем говорит таинственный сундук?»- май 2007г.( на татарском языке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Конкурс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324000" y="2017800"/>
            <a:ext cx="466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В 2006/2007 учебном году УО Альметьевского муниципального района  был объявлен  районный конкурс на «Лучший кабинет истории». Я приняла участие в конкурсе и была награждена дипломом УО в номинации «За инновационный подход при организации и проведении урочной и внеурочной деятельности»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В 2007/2008 учебном году принимала участие в муниципальном конкурсе «Учитель года»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В 2008 году участвовала в муниципальном этапе Республиканского конкурса среди семей Республики Татарстан «Гордость Татарстана» номинация «Трудовая династия»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4932360" y="3933720"/>
            <a:ext cx="1873080" cy="252108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2"/>
          <a:stretch/>
        </p:blipFill>
        <p:spPr>
          <a:xfrm>
            <a:off x="7054920" y="3933720"/>
            <a:ext cx="1909800" cy="2519640"/>
          </a:xfrm>
          <a:prstGeom prst="rect">
            <a:avLst/>
          </a:prstGeom>
          <a:ln w="0">
            <a:noFill/>
          </a:ln>
        </p:spPr>
      </p:pic>
      <p:pic>
        <p:nvPicPr>
          <p:cNvPr id="636" name="" descr=""/>
          <p:cNvPicPr/>
          <p:nvPr/>
        </p:nvPicPr>
        <p:blipFill>
          <a:blip r:embed="rId3"/>
          <a:stretch/>
        </p:blipFill>
        <p:spPr>
          <a:xfrm>
            <a:off x="5435640" y="1773360"/>
            <a:ext cx="277344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вышение квалифика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Повышение своей квалификации -это стремление учителя к постоянному повышению своей профессиональной компетентности.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2000 году повышала  квалификацию а ИПКРО г.Казань по теме «Новые технологии в изучении предметов образовательной области «Обществознание».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2001 году аттестовалась на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II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квалификационную категорию по должности «учитель»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2002 году проходила курсы повышения при ИНПО г. Набережные Челны по проблеме «Методическая система учителя образовательной области «Обществознание»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2003 году прошла обучение в ИПКРО г. Казань на курсах «Дидактическая система использования культурно-нравственных ценностей мировых религий в общеобразовательной школе»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2006 году  успешно прошла аттестацию на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I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квалификационную категорию по должности «учитель».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2007 году прошла курсы по теме «ИКТ в педагогической деятельности», которую организовали Региональный координационный центр и ММЦ Альметьевского муниципального района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2008 году прошла обучение в ИНПО г. Набережные Челны РТ по теме «Актуальные вопросы исторического и обществоведческого образования в старшей (полной)школе»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7:37:34Z</dcterms:created>
  <dc:creator>User</dc:creator>
  <dc:description/>
  <dc:language>en-US</dc:language>
  <cp:lastModifiedBy>Customer</cp:lastModifiedBy>
  <dcterms:modified xsi:type="dcterms:W3CDTF">2010-05-29T05:44:42Z</dcterms:modified>
  <cp:revision>53</cp:revision>
  <dc:subject/>
  <dc:title>Мусина Раушания Гатуфовна</dc:title>
</cp:coreProperties>
</file>