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4D2-A1B4-45B5-A20B-9F0EB2CD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542-992C-4CFB-88F3-C6FF2911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1A6D-9647-4892-8C7F-083AF9D9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F215-284A-4397-A2A0-4F8BC46F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5A68-AC45-4319-86F9-DDFB07AB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F756-F671-45EF-86E3-8550FC10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1FA4-AF02-421A-9D9F-0A455051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F9B3-57EF-4FFD-83F7-7B8CE357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6A95-82B1-465E-937A-82CD8373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8F6C-4992-4A52-853D-44B36656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3777-5693-4804-9B9C-3F01BB8C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943-263C-4307-822D-0B8E9AC4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2B09-D035-4A6D-BA18-5CA996B2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F9AB-E59D-44E4-A370-3DEDCE1D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C771-3F6C-42DE-9E90-FF7C2813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01A6-607B-4F60-8C45-ABC3898A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B1AC-3FEB-4E42-ADC8-E6997819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ADEB8-093F-4898-B8D9-60553D16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BDD60-F47C-4841-A9A9-A492DC8F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AD0FD-6EBE-4817-8BA1-58C8E36D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DD58F-F11E-4373-8815-B54B5C65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A2DF5-EE03-4941-A7B0-89B195A8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D30-58FA-4E33-9AE0-46BFA2BE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5DD83-9275-47A6-BF74-7C216973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1B904-8DBA-4905-9FC2-5350AD37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8E5D0-A1E2-4C54-81A6-ADE32209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E8539-201E-4253-B47F-26F477FC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7F7BF-9F56-4ED8-BE6D-9DA95B0B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39DA6-1F8D-4186-BF08-257E54ED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20A24-7631-4633-A07F-D3BD3612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9779-88AE-47B8-96D3-DDAF6A14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3F2CD-B759-4148-8660-F1B61423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20FB-2A76-4AF9-8DEA-B8F38ECE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3DAA3-A47B-4133-8C80-D34BCAAC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2B5BA-4B02-44C1-A3B3-A8D80F92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D6CED-CAEE-449B-AF10-F163E3E4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4CA6A-0A16-4621-A2EC-E7AF85FB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644DF-7D5D-4CEF-BEFF-F4D7EDC6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90F61-B0E0-4E88-9E9E-D5C2C43F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E7146-ACBE-4E74-8303-FD292F3F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EDD99-2CA1-4727-9331-919B9267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B0498-2F72-451D-9C35-C4373974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2C051-EDB0-4E0A-A4B0-E63DE19F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5E34-1960-40D0-99B2-8F86496B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491E2-D3C1-4A6A-A2D9-7F0B9E96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AB3-1065-4ACC-8239-C045E498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8DD-1E58-4E49-934D-1B164C1E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244-404C-4091-9D42-A0A5519F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2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0117-7C3C-46C7-AD3A-C92213AABE74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46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1AF3-496D-4E4E-966D-243202CBC52E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B637-2F71-4921-B5CC-AA9F03C80E85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br>
              <a:rPr sz="3400"/>
            </a:b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How does this work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349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349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349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A694-7747-4B19-AF73-2E7CBF90E490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63280" y="2276280"/>
            <a:ext cx="5722920" cy="11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en-CA" sz="3000" spc="-1" strike="noStrike">
                <a:solidFill>
                  <a:srgbClr val="d2533c"/>
                </a:solidFill>
                <a:latin typeface="Arial"/>
              </a:rPr>
              <a:t>FINDING</a:t>
            </a:r>
            <a:br>
              <a:rPr sz="3000"/>
            </a:br>
            <a:r>
              <a:rPr b="0" lang="en-CA" sz="3000" spc="-1" strike="noStrike">
                <a:solidFill>
                  <a:srgbClr val="d2533c"/>
                </a:solidFill>
                <a:latin typeface="Arial"/>
              </a:rPr>
              <a:t>EMPIRICAL AND CHEMICAL FORMULAS BY EXPERIMENT</a:t>
            </a:r>
            <a:endParaRPr b="0" lang="en-US" sz="3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766520" y="3668760"/>
            <a:ext cx="5553000" cy="13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Chemistry 11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Ms. McGrath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2533c"/>
                </a:solidFill>
                <a:latin typeface="Arial"/>
              </a:rPr>
              <a:t>Finding Empirical and Chemical Formulas</a:t>
            </a:r>
            <a:br>
              <a:rPr sz="2800"/>
            </a:br>
            <a:r>
              <a:rPr b="0" lang="en-CA" sz="2800" spc="-1" strike="noStrike">
                <a:solidFill>
                  <a:srgbClr val="d2533c"/>
                </a:solidFill>
                <a:latin typeface="Arial"/>
              </a:rPr>
              <a:t>by Experiment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We know how to find percentage composition of a compound using its chemical formula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Often, the chemical formula is not known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Experimentation is then used to determine the percentage composition, molar mass then the chemical formula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2533c"/>
                </a:solidFill>
                <a:latin typeface="Arial"/>
              </a:rPr>
              <a:t>Finding Empirical and Chemical Formulas</a:t>
            </a:r>
            <a:br>
              <a:rPr sz="2800"/>
            </a:br>
            <a:r>
              <a:rPr b="0" lang="en-CA" sz="2800" spc="-1" strike="noStrike">
                <a:solidFill>
                  <a:srgbClr val="d2533c"/>
                </a:solidFill>
                <a:latin typeface="Arial"/>
              </a:rPr>
              <a:t>by Experiment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292934"/>
                </a:solidFill>
                <a:uFillTx/>
                <a:latin typeface="Arial"/>
              </a:rPr>
              <a:t>Carbon- Hydrogen Combustion Analyzer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An instrument that is used to analyze the amount of hydrogen, carbon and oxygen in important chemicals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It determines the percentage composition of compounds that are made up of these three elements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br>
              <a:rPr sz="3400"/>
            </a:b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0" name="Content Placeholder 3" descr=""/>
          <p:cNvPicPr/>
          <p:nvPr/>
        </p:nvPicPr>
        <p:blipFill>
          <a:blip r:embed="rId1"/>
          <a:stretch/>
        </p:blipFill>
        <p:spPr>
          <a:xfrm>
            <a:off x="787320" y="2597040"/>
            <a:ext cx="76266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br>
              <a:rPr sz="3400"/>
            </a:b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How does this work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br>
              <a:rPr sz="3400"/>
            </a:b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How does this work?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Compounds containing carbon and hydrogen will burn in a stream of pure oxygen, O2, to produce only carbon dioxide and water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If a sample contains only carbon and hydrogen you can find the mass of the products (CO2 and H2O) separately to determine the mass percent of the compound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6" name="Content Placeholder 3" descr=""/>
          <p:cNvPicPr/>
          <p:nvPr/>
        </p:nvPicPr>
        <p:blipFill>
          <a:blip r:embed="rId1"/>
          <a:stretch/>
        </p:blipFill>
        <p:spPr>
          <a:xfrm>
            <a:off x="1276200" y="2722680"/>
            <a:ext cx="63993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A 1.000 g sample of a pure compound, containing only carbon and hydrogen, was combusted in an analyzer.  The combustion produced 0.6919 g of water and 3.338 g of carbon dioxide. 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Calculate the mass of carbon and hydrogen in the sample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Find the empirical formula of the compound.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20:15:40Z</dcterms:created>
  <dc:creator>Tammy</dc:creator>
  <dc:description/>
  <dc:language>en-US</dc:language>
  <cp:lastModifiedBy>SHS</cp:lastModifiedBy>
  <dcterms:modified xsi:type="dcterms:W3CDTF">2013-10-09T13:56:24Z</dcterms:modified>
  <cp:revision>12</cp:revision>
  <dc:subject/>
  <dc:title>Finding Empirical and Chemical Formulas by Experiment</dc:title>
</cp:coreProperties>
</file>